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7678"/>
        <c:axId val="33692464"/>
      </c:barChart>
      <c:catAx>
        <c:axId val="5847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92464"/>
        <c:crosses val="autoZero"/>
        <c:auto val="1"/>
        <c:lblAlgn val="ctr"/>
        <c:lblOffset val="100"/>
        <c:noMultiLvlLbl val="0"/>
      </c:catAx>
      <c:valAx>
        <c:axId val="33692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5EB-61A5-401B-B065-5CC0E130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D25-FC77-4841-AF6F-47FAEDA3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45B-8EE6-4FE1-A80A-20D4CEB1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925-3CE3-43D2-A571-DAEBC9ED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8B8-5EBE-4A4B-9DD8-EFDFA96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8CA-DAE1-4137-9B32-4D093548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A75-20ED-4C5A-8C46-712A228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EEC-F68B-4075-BC4E-7993C53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7CF-5085-4C83-AA07-78EFC2B0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53C-6365-4A3A-8110-3A1B8BC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035-3EB9-41D7-BF84-79B3D5D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340-12B0-4A12-973B-A6C27FB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528A2-F796-4A54-9C0D-780B72BD4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