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94981"/>
        <c:axId val="5030047"/>
      </c:barChart>
      <c:catAx>
        <c:axId val="71494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0047"/>
        <c:crosses val="autoZero"/>
        <c:auto val="1"/>
        <c:lblAlgn val="ctr"/>
        <c:lblOffset val="100"/>
        <c:noMultiLvlLbl val="0"/>
      </c:catAx>
      <c:valAx>
        <c:axId val="5030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94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A95-A270-4DE4-97CC-ED0EBF2E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FD0-8702-42D1-AFC7-18ECF10D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1C9-1DE3-43A7-B892-D86E9AEF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F5A-6364-44C8-AA7A-E28B634D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F40-D0B4-40FE-A8B3-3B33E66D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804-888D-4944-A7B2-9A9AA3D8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0F8-A9A6-42F0-B621-641B044A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118-1891-4AC6-ACA4-47C7E60D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3EB-EFB7-46C7-9916-FE95652C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353-D731-4374-B43A-6983DE3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AA8-D9F8-40AE-9EFB-E6F9E7EC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519-7F49-4019-8826-5FE4B568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77579-F8CC-4E5B-8379-37457A75D7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