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09043"/>
        <c:axId val="9628958"/>
      </c:barChart>
      <c:catAx>
        <c:axId val="47109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8958"/>
        <c:crosses val="autoZero"/>
        <c:auto val="1"/>
        <c:lblAlgn val="ctr"/>
        <c:lblOffset val="100"/>
        <c:noMultiLvlLbl val="0"/>
      </c:catAx>
      <c:valAx>
        <c:axId val="9628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09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D76-6156-4DAE-BAEE-F1C0B28D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F69-A295-42EF-BF0C-62E63F13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508-B10A-4BE1-9F6A-D1C83FE7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833-72B4-40DB-B090-353D889B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42B-B737-439A-8AC9-0FA359C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054-462B-4133-8EFA-AE0C4A26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FFD-1741-4559-B09D-52D471B0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649-D054-4616-B68C-242FF34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F17-B0C8-4F66-9C4F-CDAAC5A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3CD-BCAA-45B2-BA62-A50449B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D11-DF08-48C6-942D-E7E6B02C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D01-973C-45D9-AEA3-1576421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75292-A8E0-4436-B1F4-CD43EDC2E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