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23845"/>
        <c:axId val="67341266"/>
      </c:barChart>
      <c:catAx>
        <c:axId val="25123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41266"/>
        <c:crosses val="autoZero"/>
        <c:auto val="1"/>
        <c:lblAlgn val="ctr"/>
        <c:lblOffset val="100"/>
        <c:noMultiLvlLbl val="0"/>
      </c:catAx>
      <c:valAx>
        <c:axId val="67341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23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701-6CB7-4B14-A476-F8CC061A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C88-9A3E-47BD-911E-A045F955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ED9-5F20-419C-A342-9238DAF5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17B-2591-47A8-A3B9-8BB80813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DAE-BD4E-4C86-9853-0E1AFD80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381-2BC6-43BC-B346-BA72D6F7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A75-84A5-4275-B978-BBEB167A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C05-5E81-4221-8CDC-7421B425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499-19C1-45D3-9AEB-70A76143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6EA-4301-4ECB-81B6-F0DCB430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B35-6237-4E29-B0C3-9FCADDCC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FCA-7410-4209-96F8-A159046F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EA427-1DD4-4474-8415-4423AEAE48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