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2478"/>
        <c:axId val="49588252"/>
      </c:barChart>
      <c:catAx>
        <c:axId val="6302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88252"/>
        <c:crosses val="autoZero"/>
        <c:auto val="1"/>
        <c:lblAlgn val="ctr"/>
        <c:lblOffset val="100"/>
        <c:noMultiLvlLbl val="0"/>
      </c:catAx>
      <c:valAx>
        <c:axId val="49588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2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108-0302-4DF0-9391-5C02D758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8D5-F79F-4D29-9CCA-B2AF783A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7ED-024F-4298-B7D8-A279F126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A20-2749-4180-B041-8571DB67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E14-F4B9-4FA9-9209-977D4745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6B1-520D-4067-BB75-4D053F45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645-3556-44B1-B7BB-B7C2C50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EE-71F6-4055-8A91-A773A33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5A3-8844-44E0-8158-C0A6B68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66A-6D49-499B-9379-7813D47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14E-8C53-44F9-AE5C-EF46922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610-FCFA-44FF-BA3A-0775F08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24EFC-90B0-4234-BDD1-FF5871B92A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