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736957"/>
        <c:axId val="13705170"/>
      </c:barChart>
      <c:catAx>
        <c:axId val="637369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705170"/>
        <c:crosses val="autoZero"/>
        <c:auto val="1"/>
        <c:lblAlgn val="ctr"/>
        <c:lblOffset val="100"/>
        <c:noMultiLvlLbl val="0"/>
      </c:catAx>
      <c:valAx>
        <c:axId val="137051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7369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327E-F348-455B-8140-427BD781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BA77-5FDA-44D2-AC3A-E0129BCB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7C38-08DF-40A9-9AA5-7113A5AE8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49CD-C160-455B-8E68-D3782D9CD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8B1B-9594-4A9A-84FF-EEDF36E2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B520-0856-4718-94B1-C6540AD6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8849-A2E4-4824-B460-8551653A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7510-377E-4169-ADB1-4D7F3ED7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4A33-9342-4BAC-A987-998A9981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8C55-2CB6-415A-84C1-4E810FD3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54A6-54B1-42D7-A111-1968C871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E9BB-72EE-44AC-A0C3-DB4D10D0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32DEE-AB77-4AA6-892F-7B49DF740E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