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45484"/>
        <c:axId val="19090542"/>
      </c:barChart>
      <c:catAx>
        <c:axId val="22145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90542"/>
        <c:crosses val="autoZero"/>
        <c:auto val="1"/>
        <c:lblAlgn val="ctr"/>
        <c:lblOffset val="100"/>
        <c:noMultiLvlLbl val="0"/>
      </c:catAx>
      <c:valAx>
        <c:axId val="19090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45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AB3-8EC9-44C7-8D24-4A7F12FB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B38-E21C-40F2-BB1B-6F5375FD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4A69-ACE6-4AAE-AFE3-3EC5D355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EA4-9F7D-46AF-8D2F-C3DF565D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175-3661-4F34-A0F8-5BFC8239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E7C-272F-4E27-9731-718B225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5A0B-BE6A-4237-AD45-E529BDD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327-68D7-42B6-81FA-2CFCC12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318-4371-4A7B-A813-3D76F49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14E-61E7-4440-B365-6922A06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925-750B-40EE-8D3E-51577FB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CD6-B5ED-4F89-B30B-C9DE9DD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A5C7F-0975-440F-9268-FE2EF794E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