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722067"/>
        <c:axId val="70897371"/>
      </c:barChart>
      <c:catAx>
        <c:axId val="157220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897371"/>
        <c:crosses val="autoZero"/>
        <c:auto val="1"/>
        <c:lblAlgn val="ctr"/>
        <c:lblOffset val="100"/>
        <c:noMultiLvlLbl val="0"/>
      </c:catAx>
      <c:valAx>
        <c:axId val="708973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7220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549C-4610-4DAD-9075-301B445DD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377D-7291-4D64-A8A4-E76F779A0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16D2-F1C2-4954-876F-743E7CFAA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3098-05EE-4E78-97C8-145CA3EA9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1737-42E8-4ADC-8D4D-BBEA8649D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BC24-8DE9-42D4-904C-3BFAEEAA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E9FA-738E-42AA-A255-F5A211050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7360-0C01-448D-9C49-83620C1A0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13A3-5727-4E98-AC51-72B620EE4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2273-75DA-4408-AAAF-2CBCE72E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61CD-2951-40DB-A045-E45B799F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4BDB-B5B4-4818-9229-FB15B7EC7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F29A13-F0F8-4DBD-8738-248D037A606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