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69838"/>
        <c:axId val="94764665"/>
      </c:barChart>
      <c:catAx>
        <c:axId val="38769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4665"/>
        <c:crosses val="autoZero"/>
        <c:auto val="1"/>
        <c:lblAlgn val="ctr"/>
        <c:lblOffset val="100"/>
        <c:noMultiLvlLbl val="0"/>
      </c:catAx>
      <c:valAx>
        <c:axId val="94764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69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3E3-48D0-456E-B423-110AA385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976-3F99-424D-9A2B-55EB6071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B80-C5CA-4618-95E8-5191E99A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3BD-8A60-4B58-892E-FB430725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C91-857E-46D2-B1B3-D8D5A03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4A5-8E72-4039-AF4F-0D960152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E9B-D6B3-4FC5-BA73-4A402257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1C0-7F39-46D5-82BA-53967F1C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771-8CEE-40DD-83B9-D2FFD855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9C2-8262-48C1-94D6-E2A5D94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DA9-D708-494D-B6E5-787503D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92E-DF44-4112-B769-E9683B1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2468E-1FC6-4961-BED3-78D4470B6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