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89674"/>
        <c:axId val="60886997"/>
      </c:barChart>
      <c:catAx>
        <c:axId val="64789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86997"/>
        <c:crosses val="autoZero"/>
        <c:auto val="1"/>
        <c:lblAlgn val="ctr"/>
        <c:lblOffset val="100"/>
        <c:noMultiLvlLbl val="0"/>
      </c:catAx>
      <c:valAx>
        <c:axId val="60886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89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4AB-91B0-486B-A4ED-3A59A9DC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920-63C4-4FC6-92F4-198F1700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5F0-43C1-4118-9327-55FE158A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31C-6183-42C4-A96A-E322C8B1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682-7A50-4342-ABDC-6315E2AE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74C-3C4E-4377-94D7-555000D1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882-F9E9-4E65-9A8F-760FAE35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E8DC-67BB-4DDF-A866-A90F3589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EBD-B1EB-48C6-A366-1A1BD423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E01-FD0C-42B5-8796-70A556E0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561-853B-41A4-A670-BCAD68AA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25B-4E0A-4375-AC0A-0299A56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792B5-5E16-4CCB-BAA6-3B0C03A434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