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4676"/>
        <c:axId val="47968301"/>
      </c:barChart>
      <c:catAx>
        <c:axId val="1744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8301"/>
        <c:crosses val="autoZero"/>
        <c:auto val="1"/>
        <c:lblAlgn val="ctr"/>
        <c:lblOffset val="100"/>
        <c:noMultiLvlLbl val="0"/>
      </c:catAx>
      <c:valAx>
        <c:axId val="47968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4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4B4-738A-4E76-99F8-F19F0B0E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2FB-E77A-4543-A430-BDA2C21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655-FDDF-48B3-8BC8-CF8A348D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A9F-0332-48BD-9106-847B3042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FC3-DFD2-485A-9810-4325BDA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451-A2B2-4ED6-9759-F356331A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F27-CA79-442B-B819-FF1E79FC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801-F849-4FDC-A37E-D4B56A6F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EF6-701F-480D-8C45-2AF1B812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23A-A1AB-4462-B662-3EC1D5C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B7D-5C85-4C11-851B-418C584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9A3-A412-43FF-B4CE-F558AC2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CD49C-A69A-4BF4-B11E-C685DFDEA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