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35341"/>
        <c:axId val="92072203"/>
      </c:barChart>
      <c:catAx>
        <c:axId val="15035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2203"/>
        <c:crosses val="autoZero"/>
        <c:auto val="1"/>
        <c:lblAlgn val="ctr"/>
        <c:lblOffset val="100"/>
        <c:noMultiLvlLbl val="0"/>
      </c:catAx>
      <c:valAx>
        <c:axId val="92072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35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F86-AD7E-4460-8D4D-D3A4248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CC7-3381-4C8D-8A8E-4881851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883-097D-444F-9393-89F3792F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087-6FB6-42EF-B316-45E62DD6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FE4-85F2-4524-B04D-5FD250A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4D3-5E16-4D5E-AC24-5FA431A9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80A-3C54-4577-A031-8B302F8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92B-FEB1-4425-BEDA-1AF633E2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0CE-7B39-424D-8329-E16A6B2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C2-78A3-4EAE-88B7-88CE6EA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663-61DE-405B-B5B1-EEC9EB0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520-F1C4-4443-8209-B89F5A0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B561D-79D7-4C27-9D4D-9369CD351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