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488333"/>
        <c:axId val="11335986"/>
      </c:barChart>
      <c:catAx>
        <c:axId val="348833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335986"/>
        <c:crosses val="autoZero"/>
        <c:auto val="1"/>
        <c:lblAlgn val="ctr"/>
        <c:lblOffset val="100"/>
        <c:noMultiLvlLbl val="0"/>
      </c:catAx>
      <c:valAx>
        <c:axId val="1133598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8833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BC789-02D8-4739-85E8-2E8C801A8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CC253-7FBB-4B42-9FC3-DD1FB4160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4DF99-9EC4-4638-A7A8-300A6CC3E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B4FDB-D1CA-46F3-901E-2496570CB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C70CB-1B9F-4990-9F4A-0C3AAAAFF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B3194-4974-4AEA-B6CB-9DE69A990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A7F41-F004-49C7-AF73-C35083A05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D5947-11D0-49CB-AE8D-5CF427DC6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D95B3-F017-42A4-AC4F-42E924E6C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6DF90-F63C-4C6F-A2E9-4E3C532B0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3A2F7-3E59-452D-B9AE-623181D9F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0995A-2DD8-4E48-BA1A-F34EE658E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45D96F-5015-446F-BBF3-801C7CF4321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