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526358"/>
        <c:axId val="66682520"/>
      </c:barChart>
      <c:catAx>
        <c:axId val="265263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82520"/>
        <c:crosses val="autoZero"/>
        <c:auto val="1"/>
        <c:lblAlgn val="ctr"/>
        <c:lblOffset val="100"/>
        <c:noMultiLvlLbl val="0"/>
      </c:catAx>
      <c:valAx>
        <c:axId val="666825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263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BC9E-C77C-469F-8EF0-9D1B7441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4826-FE57-4479-B0E2-FADC1128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5DED-88F8-464B-8E1E-BBCD9863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D5FA-AF2C-44C3-B4A6-BD140F3FF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F555-95A0-46C1-A1C9-819F44AB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E6E6-1E2D-414E-A7A2-B9A5F924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C7FA-B423-4DE8-ACCE-68296FC9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0087-E3C1-4B09-AEB9-FB2C754A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E6BB-9B84-487F-8832-62479F4A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3377-D847-4394-BDB7-8C5B1C29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B330-6389-4E56-8968-AB4567EA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D94E-D3B8-459D-AC5A-199B0A59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19FC1-6BA0-4644-BAC2-216C7B5037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