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563726"/>
        <c:axId val="25939899"/>
      </c:barChart>
      <c:catAx>
        <c:axId val="25563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39899"/>
        <c:crosses val="autoZero"/>
        <c:auto val="1"/>
        <c:lblAlgn val="ctr"/>
        <c:lblOffset val="100"/>
        <c:noMultiLvlLbl val="0"/>
      </c:catAx>
      <c:valAx>
        <c:axId val="25939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63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F80-BE2E-495D-8748-885204A4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E7D-6164-4C29-BF3D-1CF9CCF7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5988-11D0-40A6-B21C-3109293D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441-A634-4641-9520-C76E3555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052-2A29-4A2A-8118-B41AA3BD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F22-D31F-4D59-9FDB-92214A59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0093-B381-455C-97DB-2FC2F701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A2FE-B20C-4BC8-B1FE-B81E994A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319-FD85-46C7-A77A-11663D15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A7A-0C98-4A2C-AFBD-A1135ED0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7F5-49DD-4048-89BA-652099F2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91C-0BE2-4C28-8ADD-21FA521C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D2A0F-9A86-41DD-87E1-A25664B625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