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39539"/>
        <c:axId val="75934968"/>
      </c:barChart>
      <c:catAx>
        <c:axId val="45639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34968"/>
        <c:crosses val="autoZero"/>
        <c:auto val="1"/>
        <c:lblAlgn val="ctr"/>
        <c:lblOffset val="100"/>
        <c:noMultiLvlLbl val="0"/>
      </c:catAx>
      <c:valAx>
        <c:axId val="75934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39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6C8-F3D6-495E-8BA2-1B14B456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F40-103A-4588-AE57-DD8EC5D8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CAB-48C9-4C6E-8306-DE6E1A6C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8EF-E4BB-4EA0-83A9-C72BE1B5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ABF-69A2-4E88-B487-C02DE407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0E2-DCE9-47AA-A1EB-3B09B6F5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2ED-9954-4833-8ACB-BEB2BFE4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13F-0181-43B0-B857-8209C7A7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FC1-B674-4E82-908D-01F24B44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4D1-E1B0-4D18-A5F9-13E7D48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920-A6F8-441B-AFC9-617154B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93D-7DDC-445F-BC93-AA73E32B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FB215-A34E-4F0F-851A-07099BDBD7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