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23596"/>
        <c:axId val="3673364"/>
      </c:barChart>
      <c:catAx>
        <c:axId val="94923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3364"/>
        <c:crosses val="autoZero"/>
        <c:auto val="1"/>
        <c:lblAlgn val="ctr"/>
        <c:lblOffset val="100"/>
        <c:noMultiLvlLbl val="0"/>
      </c:catAx>
      <c:valAx>
        <c:axId val="3673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3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34B-B46B-45D0-8777-4ED765E2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5B0-C08D-4772-8B47-EB114495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23B-AF70-433D-940A-951907FA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0EC-4305-4E94-91AD-73452CE8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A33-CD43-4A47-A26F-B67D6040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95F-6E2B-4897-9AC3-CF3958CC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B32-F986-46E5-8DFF-C0380E41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8E4-2E1A-441B-91A8-7E44017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798-EE14-4B3A-A867-62A869A3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E11-AE0C-480B-9715-5AFB523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E0A-7245-4E62-B859-9AFE8BF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682-AE06-4D1F-878F-3984CE7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877B0-5D77-452B-B39C-8253D4961A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