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42123"/>
        <c:axId val="78870388"/>
      </c:barChart>
      <c:catAx>
        <c:axId val="67042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70388"/>
        <c:crosses val="autoZero"/>
        <c:auto val="1"/>
        <c:lblAlgn val="ctr"/>
        <c:lblOffset val="100"/>
        <c:noMultiLvlLbl val="0"/>
      </c:catAx>
      <c:valAx>
        <c:axId val="78870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42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7F9-423F-444F-9632-E2FB1445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52E-9B71-400B-96FD-CCDB635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987-68D1-42EF-93D7-56C19DE3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B55-C75B-437B-94C0-B2AA1E7F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D93-54DA-45B6-89A1-B4DA3D79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77C-C53D-4C60-83D9-5544635B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2F0-7686-4422-B22B-1B6F011F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E65-6A0C-4FF7-98A9-9E13589A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0BC-C784-48DE-94B6-CF1832DB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0EA-8634-4EB4-BAEE-2D9F72B7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DF3-8333-47AC-A102-8CCDA67E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37C-FFE0-4411-8577-0B8BADF6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EEBF8-66F6-46A8-95AF-AF4B361585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