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179472"/>
        <c:axId val="86130395"/>
      </c:barChart>
      <c:catAx>
        <c:axId val="201794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30395"/>
        <c:crosses val="autoZero"/>
        <c:auto val="1"/>
        <c:lblAlgn val="ctr"/>
        <c:lblOffset val="100"/>
        <c:noMultiLvlLbl val="0"/>
      </c:catAx>
      <c:valAx>
        <c:axId val="861303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794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C1F1-70CF-468F-A716-3393E181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7B56-939D-4E70-B8A6-43804E22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EE99-525A-43E0-87D9-DA037A4D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4DBD-AF5E-4C0B-8CB1-30E64937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9290-588A-41F7-8373-145BEF8B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87CF-798F-42AB-AA1D-F67843BD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7D12-BDEF-4C5E-AA1B-C989FA17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91A2-8305-4CCB-82C8-D810A621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D50-8D26-4EBE-ABFE-874B2F6E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D83C-FD09-4769-8B1B-D0F33251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B516-E38B-49DE-B907-B0D2C1DD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5B49-4FF6-4959-8BFA-9F1C26C4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FEA02-1FA8-45B9-ADEB-0FC0D1D2E1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