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42420"/>
        <c:axId val="71218131"/>
      </c:barChart>
      <c:catAx>
        <c:axId val="57542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18131"/>
        <c:crosses val="autoZero"/>
        <c:auto val="1"/>
        <c:lblAlgn val="ctr"/>
        <c:lblOffset val="100"/>
        <c:noMultiLvlLbl val="0"/>
      </c:catAx>
      <c:valAx>
        <c:axId val="71218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42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861-2969-48D2-BB87-BDFF412B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5D5-DE2E-4ECA-BEBC-32D86D0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D05-F38F-4432-9365-B0592FFA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05A-AA48-435D-B479-CC3B9EF3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91F-EE5E-46D2-9590-9B50D84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1CF-443D-4C70-BF43-FB33324D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CF7-60B1-4C72-A773-45DAF64C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8CA-8A57-4AFD-BB0D-D9ED260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C36-34F7-40AF-AF24-C27C8AE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BB8-2589-445F-AAA6-6873873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7DA-5F80-4CD7-BC8C-59AD1E7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DA4-BADB-4D14-9D40-44AC48A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F901-1262-40CF-82EF-6CED50376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