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64698"/>
        <c:axId val="86816102"/>
      </c:barChart>
      <c:catAx>
        <c:axId val="37064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16102"/>
        <c:crosses val="autoZero"/>
        <c:auto val="1"/>
        <c:lblAlgn val="ctr"/>
        <c:lblOffset val="100"/>
        <c:noMultiLvlLbl val="0"/>
      </c:catAx>
      <c:valAx>
        <c:axId val="86816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64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8C0-E545-4A68-A5C8-0464A0BC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676-E2BC-4FBF-B1E0-DC204D09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B22-7133-42C7-B079-F4BCAAC2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7FF-D780-4493-950C-31F6A592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DF7-0277-481E-B371-9D174C4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AE9-CEFC-4C91-B18B-199E35E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D1E-6A63-4BA0-BFE6-B20013B8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B1B-CC35-4617-98E3-21294526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4B0-A7F4-48CB-BCB1-11A9663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8D1-7DE2-4E84-9AB4-B57B219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A80-E548-48E5-8BEE-04B5C86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EF4-8AEF-4BD9-8635-BDDE5C3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C6C90-2FC4-49E5-918A-886ED9C9A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