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96906"/>
        <c:axId val="78318950"/>
      </c:barChart>
      <c:catAx>
        <c:axId val="33696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18950"/>
        <c:crosses val="autoZero"/>
        <c:auto val="1"/>
        <c:lblAlgn val="ctr"/>
        <c:lblOffset val="100"/>
        <c:noMultiLvlLbl val="0"/>
      </c:catAx>
      <c:valAx>
        <c:axId val="78318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96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C67-2940-49C6-8CDB-C20F1E86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ECA-90EF-4A6D-B38B-CB90F5AA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FD0-3006-4876-A53A-23042192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7DD-BF42-4A23-958D-432FF13C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25E-CEE7-49B8-A0AF-C915209D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8F7-5786-466B-B3C0-E0806927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D56-97BD-4CC5-9AC6-F554A4AB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4A9-E29E-47EE-AFB2-3CF82860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AA5-CCF1-471C-BC4E-DE838FFB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F5B-7CBE-4DC8-9766-DABB3FC2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245-5F33-49E9-A42B-EB51DD30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07B-83EF-4830-BA20-4317BBAB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4E654-2F3B-4340-8BF1-818CC764C8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