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93443"/>
        <c:axId val="92564255"/>
      </c:barChart>
      <c:catAx>
        <c:axId val="17793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64255"/>
        <c:crosses val="autoZero"/>
        <c:auto val="1"/>
        <c:lblAlgn val="ctr"/>
        <c:lblOffset val="100"/>
        <c:noMultiLvlLbl val="0"/>
      </c:catAx>
      <c:valAx>
        <c:axId val="92564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93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EB2-8435-4A31-BFCD-B14EF075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2EF-7A05-4AFD-976B-FFD763D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0A0-4251-4551-B401-2B6D6F2A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BB2-6C05-48BD-A2DE-AEA0AC1C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C12-890C-4263-BC63-216E4AC2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DF7-FD4C-4160-87C7-03D8D6C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96C-CB18-4699-9F43-04BFEC58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696-3853-447A-AF1D-9C3B469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FE3-AD25-417C-A567-58B0DE4C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A1E-22CD-44D6-A8D5-16F346D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127-D07B-4DC4-B3A3-ADA6523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4E8-5F6C-4035-88B1-65E01F6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3C4C4-DB6E-4EB4-A200-8F7ED51A1A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