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130551"/>
        <c:axId val="41883528"/>
      </c:barChart>
      <c:catAx>
        <c:axId val="651305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883528"/>
        <c:crosses val="autoZero"/>
        <c:auto val="1"/>
        <c:lblAlgn val="ctr"/>
        <c:lblOffset val="100"/>
        <c:noMultiLvlLbl val="0"/>
      </c:catAx>
      <c:valAx>
        <c:axId val="418835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1305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3493-C873-43A7-8D30-CFB866B6D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43FD-1BF3-44EB-9468-E46A06142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D4DA-2F7E-4DE1-ABF2-DE090E1C6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9495-F4C5-4303-98DA-7085D2362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9E36-372F-48B7-94F4-3F1B2024D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D126-9D5B-44CE-897B-E7E4B63F4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FF01-2B18-418A-AE58-79FFE3666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1CFF-1F6E-4775-ABF7-66853E14B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C1C1-4847-4130-8C9F-AE3709B58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4195-C0C4-4650-8D1D-54D6BE52F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5337-8AB8-4A4C-8E87-A49DC8E0C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22A6-B10C-49C8-AE95-82D88DA28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EA390B-D8FA-44C7-BF16-BB9E7AF55DA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