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52479"/>
        <c:axId val="3340892"/>
      </c:barChart>
      <c:catAx>
        <c:axId val="64852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0892"/>
        <c:crosses val="autoZero"/>
        <c:auto val="1"/>
        <c:lblAlgn val="ctr"/>
        <c:lblOffset val="100"/>
        <c:noMultiLvlLbl val="0"/>
      </c:catAx>
      <c:valAx>
        <c:axId val="3340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52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D81-95E9-4ED7-8AC0-EA730142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6267-A3B8-45A6-A463-535250F4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DD4D-A1CD-418A-8416-1839362F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439-5E63-424F-A6E3-24F22954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72B-372E-44BE-9EDB-7C53281C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9F4-7D06-408A-9E58-0F9B6DAC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1CD-357A-4396-A5B0-3F91841F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B77A-98E1-4E90-9DC0-9C859BAC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732F-3930-4279-A9DC-A5F9884F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7AC-8449-4F03-BD27-26811B4F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1CE-AE90-41C5-A240-E188583C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249-C150-4842-9258-4A2AC39B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5B1D4-0ED5-4532-99E8-176331CDC4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