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67946"/>
        <c:axId val="35611309"/>
      </c:barChart>
      <c:catAx>
        <c:axId val="35467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11309"/>
        <c:crosses val="autoZero"/>
        <c:auto val="1"/>
        <c:lblAlgn val="ctr"/>
        <c:lblOffset val="100"/>
        <c:noMultiLvlLbl val="0"/>
      </c:catAx>
      <c:valAx>
        <c:axId val="35611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67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B7D-6519-44A6-B116-F91BF393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C51-E9E2-4698-8761-C516C699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79D-98FF-4E57-8D9F-1AD520BB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BF5-7B10-4058-AE8C-97C0A5E3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62C-CE8B-4FC7-98D4-B2972D88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3B2-1485-4B28-96B9-93D7296F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8D6-B821-4C0C-A3D3-9B1FD98C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3CC-AFE6-4453-90E5-2917A7FF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905-5883-4259-BDA0-CA3BA6AB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72D-EB31-4C08-9D42-0E8E043F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88B-D529-4071-AC0B-A0C41EE5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D3A-09AE-4F47-8F0F-03DBBAB9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C08B4-CC77-487A-9824-9AC4AEA0B1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