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5266"/>
        <c:axId val="86137489"/>
      </c:barChart>
      <c:catAx>
        <c:axId val="5375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37489"/>
        <c:crosses val="autoZero"/>
        <c:auto val="1"/>
        <c:lblAlgn val="ctr"/>
        <c:lblOffset val="100"/>
        <c:noMultiLvlLbl val="0"/>
      </c:catAx>
      <c:valAx>
        <c:axId val="86137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5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68D-BB27-413F-BD73-D16DA3C5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95C-C637-487D-BC89-6764D62F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CE8-E09D-4CA8-AD32-A298E657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84C-7B29-458F-9481-0D86FA4C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924-4623-477B-A903-EB5B44DE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E13-6325-4E82-BB1A-F8D36851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547-6302-4696-9B50-C30BA1DF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B5D3-6BE4-4FF4-89F5-C037E377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794-CF2D-41B6-9C5A-B993474F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6C3-D0C5-4E96-8637-91F61482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4C0-90C1-4293-99BE-A3DB085A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7F0-C6FC-4D5A-8356-BC08AB40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9E0BC-F642-49D5-9452-C3AB5DE204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