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75952"/>
        <c:axId val="28102944"/>
      </c:barChart>
      <c:catAx>
        <c:axId val="52575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02944"/>
        <c:crosses val="autoZero"/>
        <c:auto val="1"/>
        <c:lblAlgn val="ctr"/>
        <c:lblOffset val="100"/>
        <c:noMultiLvlLbl val="0"/>
      </c:catAx>
      <c:valAx>
        <c:axId val="281029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75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5D6-BE9B-4DB4-BADD-BF126991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90F-656A-4CD3-BFC3-1F45F062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B766-9774-4A60-A395-32669C72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00BC-FD8E-4110-83C4-3905394D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7758-58EE-4F3A-8AD6-10718C0F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A964-42D5-4A9D-A471-CD2C5252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C7B-A606-4815-8422-00DA9AE0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CCCD-6D38-4F04-A3B9-02946F78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451-FA74-4BE6-9F79-84B0C3A3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02B-41CE-47AB-8811-962DBDA2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19D-AC03-4FCB-AF0B-AD9983F8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278-292A-4351-A6C6-B1168BC9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2E642-701A-4AD5-8EF8-864A11D79A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