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144869"/>
        <c:axId val="22797954"/>
      </c:barChart>
      <c:catAx>
        <c:axId val="971448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97954"/>
        <c:crosses val="autoZero"/>
        <c:auto val="1"/>
        <c:lblAlgn val="ctr"/>
        <c:lblOffset val="100"/>
        <c:noMultiLvlLbl val="0"/>
      </c:catAx>
      <c:valAx>
        <c:axId val="227979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448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FE5E-278B-46F8-8BDE-BF720256F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23A4-EDF9-4776-894F-29CC0108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5E96-9DED-45EF-8B08-9712E045E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34B3-EE1B-4522-AE9A-466C2B2E2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B570-CA4E-474B-942D-69C2B8C8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088E-7A19-4E46-9E08-B195AE0A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E277-D8C3-4BB3-9CC5-6764090F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2B50-BF46-4FD5-B6C0-2B189B6B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295C-BCC5-4EB9-A52F-BE5BE1F5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8662-3F55-45CD-ABC9-A214D5F3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1312-835E-4238-8A58-9C7DA5A4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19A1-F3D1-4F3C-95B3-E75A92E0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58E9F-5ED3-4FF7-A5FD-3E9A6548A2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