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49798"/>
        <c:axId val="73655675"/>
      </c:barChart>
      <c:catAx>
        <c:axId val="96749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55675"/>
        <c:crosses val="autoZero"/>
        <c:auto val="1"/>
        <c:lblAlgn val="ctr"/>
        <c:lblOffset val="100"/>
        <c:noMultiLvlLbl val="0"/>
      </c:catAx>
      <c:valAx>
        <c:axId val="73655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49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193-1838-4924-BE27-86BE592E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DD4-87F5-4857-890A-A7F9D6B5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49F-7C4E-4767-86B1-74C1E177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F18-9455-4E95-BCE7-CCCDBA3C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65C-1382-45E2-B7DA-031D5D6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64F-643B-48B5-928C-65EEE437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804-64DA-4A1E-8C0C-D01036E4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FE9-99F5-4304-A39A-95A3EF85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59C-F26E-4C74-9327-D3ABE49D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26F-3BD6-4B10-9E12-6240D49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796-5BD9-4B9A-9F54-DA1C018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375-BDF9-46C8-BB00-8CC61F9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1BE29-83D8-49B5-A628-DBD355F374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