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91760"/>
        <c:axId val="37724493"/>
      </c:barChart>
      <c:catAx>
        <c:axId val="63291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24493"/>
        <c:crosses val="autoZero"/>
        <c:auto val="1"/>
        <c:lblAlgn val="ctr"/>
        <c:lblOffset val="100"/>
        <c:noMultiLvlLbl val="0"/>
      </c:catAx>
      <c:valAx>
        <c:axId val="37724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91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B4B-A001-4D34-9BFC-9B3B2FC9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F93-905F-4072-AAFA-BE3114C3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5F3-E575-4A72-984E-6168B984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666-1107-4AEA-9E06-BAD82AC6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F0C-071D-417E-ADBC-DC956FD8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FEE-143D-46B0-8B53-8EFF1207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880-5015-4125-B5B0-CF775661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F16-0687-4932-97F7-207CC08E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0DB-D22A-443C-AF39-ECC6067E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5BA-02CC-4D47-8549-F87D5823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972-82CA-4A6E-8499-0C8006E0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4F5-6608-41A4-ABB7-CBC29BCF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EDE7F-A4B5-4CC0-A1E1-21DA2E1B11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