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99685"/>
        <c:axId val="40912488"/>
      </c:barChart>
      <c:catAx>
        <c:axId val="36699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12488"/>
        <c:crosses val="autoZero"/>
        <c:auto val="1"/>
        <c:lblAlgn val="ctr"/>
        <c:lblOffset val="100"/>
        <c:noMultiLvlLbl val="0"/>
      </c:catAx>
      <c:valAx>
        <c:axId val="40912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99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CD6-7F22-4306-8636-74A684C0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A5D-3A24-4F5C-9BBC-624C2680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5AE-6927-404F-AF5B-73004F92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229-AF87-4CC0-8EDB-327D2439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56D-262A-4B3D-BFBD-F6A9FC5E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0C7-9542-4FF7-AF31-4CAF8C79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D6D-07A6-4258-82C6-48622048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A96-15FE-483C-A96C-55F86CDD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935-B192-4B20-8ADF-F21F0858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941-07F6-4360-884E-BDECAA7A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39E-4A4C-43BF-8F10-B7EDD17D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6E5-E907-41DD-A626-DE2B9127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EB42E-8247-465D-BA20-3BD1E44D5E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