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35150"/>
        <c:axId val="7166775"/>
      </c:barChart>
      <c:catAx>
        <c:axId val="12351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6775"/>
        <c:crosses val="autoZero"/>
        <c:auto val="1"/>
        <c:lblAlgn val="ctr"/>
        <c:lblOffset val="100"/>
        <c:noMultiLvlLbl val="0"/>
      </c:catAx>
      <c:valAx>
        <c:axId val="71667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51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DE99-BED0-4659-95C8-0CAAAEF9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1E2B-D370-4014-92B5-83552E05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FDE-52CD-496D-993A-4514F614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0A3F-1D3E-4E83-B1CA-536100B7A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5DB2-4AD5-41FC-A5A7-107A9C38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1349-FCA2-4F7D-AF69-3F194549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7ED7-18FB-4383-981E-A12D6FF7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30F7-1445-4CBD-8C91-CA76729A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7036-1435-448B-B759-6492752B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27A0-23C5-4E1B-94AA-A756C316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C289-CCC0-4649-9D18-6D06170F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5250-BA49-4273-BA35-7C4D99A9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076B1-A755-4D64-B831-75AC9FDB29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