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07587"/>
        <c:axId val="92073358"/>
      </c:barChart>
      <c:catAx>
        <c:axId val="23107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3358"/>
        <c:crosses val="autoZero"/>
        <c:auto val="1"/>
        <c:lblAlgn val="ctr"/>
        <c:lblOffset val="100"/>
        <c:noMultiLvlLbl val="0"/>
      </c:catAx>
      <c:valAx>
        <c:axId val="92073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07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275-C263-4482-93F5-B957F934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079-C5F9-4D01-9907-A07B0B96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213-ECAD-40BC-8DA0-563214DC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CA5-C6FA-458B-9A6E-5953C09E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C95-5FF3-443A-BA80-06F2D0E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817-91C4-49AF-AF88-9D4B9053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6A9-4D0C-48DD-A545-56256149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BF5-9279-48FF-8088-AF2D8165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1A5-2E4F-4A36-BA01-6BD13A7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176-EE55-448F-883E-C0DB4D27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212-D25B-4068-9D0A-7B714359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32F-0E13-49C4-A6A0-CA17A46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EC6BC-3B04-494F-AA09-0B5D278F9A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