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02846"/>
        <c:axId val="84989981"/>
      </c:barChart>
      <c:catAx>
        <c:axId val="21002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89981"/>
        <c:crosses val="autoZero"/>
        <c:auto val="1"/>
        <c:lblAlgn val="ctr"/>
        <c:lblOffset val="100"/>
        <c:noMultiLvlLbl val="0"/>
      </c:catAx>
      <c:valAx>
        <c:axId val="84989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02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6D4-90B1-4A1D-957F-F4031C1E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C462-4908-4565-8578-38CE00E4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D9C-C17F-431B-BA9E-7C6780C2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560-08B3-4A96-86BD-754E20A1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93F-5A9D-43B2-834A-E6565567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8E7-1585-423B-9FB0-4F02A36C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E58-3EA3-47D5-92E9-CF3F308C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DCB-546D-4411-A05B-A99722C6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A42A-942C-4BF4-9157-99D1DB56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C9E-27A0-4B5E-A322-9A26BA6D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6ED-FF02-41E8-A151-5FAC64B5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4E6-5393-4BFE-A9C8-B40F36EF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53A64-04B3-41BD-A4E9-6B6F264318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