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37503"/>
        <c:axId val="80501041"/>
      </c:barChart>
      <c:catAx>
        <c:axId val="555375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01041"/>
        <c:crosses val="autoZero"/>
        <c:auto val="1"/>
        <c:lblAlgn val="ctr"/>
        <c:lblOffset val="100"/>
        <c:noMultiLvlLbl val="0"/>
      </c:catAx>
      <c:valAx>
        <c:axId val="80501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375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2AB-F679-4263-BB64-C8B145CC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2F0D-1AB2-4E87-9DB5-9611F5A0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49E-5173-4A1F-B9F9-60CAF36F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C84-9D9B-486B-9342-E5BFA5A9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C2B-97AA-42BE-8911-6C37B494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EBE-DCA0-4F80-A26F-48B76A32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16BF-A556-43F0-A8DF-BDED79FB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565-D21E-4905-8E49-5AF0BF74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B55-D39E-407A-B578-14F6B714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CA34-A951-4C27-A520-5175ABE4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892-3FB2-4F5F-86BC-BFEBE485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7B6-C9EF-4254-8EC9-163EFF39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2A00D-0729-4EE8-A4D4-06AB089D72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