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13330"/>
        <c:axId val="13797385"/>
      </c:barChart>
      <c:catAx>
        <c:axId val="95613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97385"/>
        <c:crosses val="autoZero"/>
        <c:auto val="1"/>
        <c:lblAlgn val="ctr"/>
        <c:lblOffset val="100"/>
        <c:noMultiLvlLbl val="0"/>
      </c:catAx>
      <c:valAx>
        <c:axId val="13797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13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4C6-46B2-4082-9719-48A4FFB8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58C-D28A-40BA-AF2F-8ECF2CA1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ABD-4367-4B39-9D1C-9469B1B4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C46-E90D-41B5-BB7C-A025737C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4FD-FB0B-41D7-AED0-9C738541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2B8-D122-45B9-8DE5-FB4E5A2D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EB5-FEA0-493B-827E-AE3F2BC6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4A3-C53E-4A5E-8418-4035785F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408-96C0-4AF0-A0E3-ED6068AA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B67-0125-4D9E-ACE6-9658E39A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CEB-16FD-425E-9DD0-F17A88F3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FE2-DD85-4B7F-A857-0EC4332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4A384-1D56-4F86-9391-CD02136E44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