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24370"/>
        <c:axId val="49951235"/>
      </c:barChart>
      <c:catAx>
        <c:axId val="79524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51235"/>
        <c:crosses val="autoZero"/>
        <c:auto val="1"/>
        <c:lblAlgn val="ctr"/>
        <c:lblOffset val="100"/>
        <c:noMultiLvlLbl val="0"/>
      </c:catAx>
      <c:valAx>
        <c:axId val="49951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24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F42-9FFE-4975-B232-73C4EE01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D19-E3E2-4587-9732-DEC267F1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840-E97B-442A-9EA5-309A6065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2DF-871D-43B6-AB07-E42493AD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231-8A44-487A-A7E7-738540CE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DBE-261F-4FFD-BDAD-A1B02A92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BC8-039D-48B6-89F0-7B2300D5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3E0-0B77-4675-A1AA-3A1FFC36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AE3-E572-4D2F-BA03-F3E85EC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927-5E85-446C-9FDF-8BBBE217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E7C-675B-4ECA-8EC7-83E5CF1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64A-4D5F-4CB0-9C41-E1CE959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324F1-6CF9-4818-A9F7-665A4BE57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