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14486"/>
        <c:axId val="13557542"/>
      </c:barChart>
      <c:catAx>
        <c:axId val="43314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57542"/>
        <c:crosses val="autoZero"/>
        <c:auto val="1"/>
        <c:lblAlgn val="ctr"/>
        <c:lblOffset val="100"/>
        <c:noMultiLvlLbl val="0"/>
      </c:catAx>
      <c:valAx>
        <c:axId val="13557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14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4EA-D5D3-41C5-A33C-FF2DF36B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F41-09E0-4E2A-AF11-C797AE77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5AA-27D8-42A9-A615-F6C1FCDA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7B5-7270-43FD-80BB-F364B32C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465-7379-4562-A8BA-9DB5AF9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94F-4BE7-4B3F-9749-3ADD419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E82-1F60-4EA6-895D-5F9A89DE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9D8-10B7-4932-B180-5E2033D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2FE-63C8-447E-8829-01AD46B5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713-08D1-4A4F-8610-45D33DA3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946-E095-4871-98DE-382C65E6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86D-D2EF-4BDA-84E2-7B2A33C3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D852-E579-46C4-AA27-C158F0A1D4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