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47155"/>
        <c:axId val="58917627"/>
      </c:barChart>
      <c:catAx>
        <c:axId val="53447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17627"/>
        <c:crosses val="autoZero"/>
        <c:auto val="1"/>
        <c:lblAlgn val="ctr"/>
        <c:lblOffset val="100"/>
        <c:noMultiLvlLbl val="0"/>
      </c:catAx>
      <c:valAx>
        <c:axId val="58917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47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85F-0AB8-4B00-9239-D328F548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0CA-11B7-4420-ABA7-92D38A54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662-5211-481A-AEC5-9C17AEA3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DDB-4BC2-418C-9AC3-B56421EC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D0A-2197-4624-BF52-A83CDC9A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A75-783F-4016-AC41-ECD61219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3A2-73A5-4672-8F87-D13F0E4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0DF-0A4E-480C-AD74-5CBB5654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BA9-5DB1-413D-83BF-73F8FDF1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1C5-9C73-4541-9AE9-C407065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7DF-7B03-4DDD-A017-7A8A5A64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73F-1ED6-4FFC-ADFC-43EE8A8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93FEF-5967-4CDD-9805-071E14A281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