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90449"/>
        <c:axId val="21042230"/>
      </c:barChart>
      <c:catAx>
        <c:axId val="85790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42230"/>
        <c:crosses val="autoZero"/>
        <c:auto val="1"/>
        <c:lblAlgn val="ctr"/>
        <c:lblOffset val="100"/>
        <c:noMultiLvlLbl val="0"/>
      </c:catAx>
      <c:valAx>
        <c:axId val="21042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90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C017-6E98-49B0-9D6B-E450ED81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D71-7F14-44EF-8B1B-BF0870BA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71EC-0D9C-496F-A2F2-B05B3D91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FEC7-A39A-4EF9-9FC1-B5766C0F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4D5-A777-4027-94E8-66596972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B123-CF07-4FD0-B54D-AEFAC9BC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9699-BF82-4206-B2AB-74F0EB6C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F45E-FDAB-4D39-AC37-85662877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BBE1-BBFB-46C6-AF64-4ECEF73A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BAAF-2762-43CB-899B-991529C4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FBF9-025F-43E2-9AA2-8A7A4550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556F-8CA2-441F-AF21-4C095A34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62308-4BAD-4CE7-A8F8-D9FD2E7C96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