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0612"/>
        <c:axId val="35879043"/>
      </c:barChart>
      <c:catAx>
        <c:axId val="2410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79043"/>
        <c:crosses val="autoZero"/>
        <c:auto val="1"/>
        <c:lblAlgn val="ctr"/>
        <c:lblOffset val="100"/>
        <c:noMultiLvlLbl val="0"/>
      </c:catAx>
      <c:valAx>
        <c:axId val="35879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0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C81-4BB4-4744-9665-441080FD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958-10D0-4760-A35A-3BABCA24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92E-60FF-4BCD-AF0C-D550B44A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BB8-5D0D-4563-B0E9-22BCF057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0B5-7D56-4D90-B9E7-03BFAF66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544-DF7A-4297-9523-C209D4F9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8D5-21F1-4326-9AD3-CB9EDAE7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35A-47F5-4B7C-BFDF-3960B36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A40-8E18-4C49-A179-55268595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76B-6D0C-48D2-A33F-8A58243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C05-94E1-4141-833C-17517457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A9B-FCAC-49D4-BA06-80E083A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0F686-D2B3-45C6-9127-DB6F7B77CB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