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36842"/>
        <c:axId val="16272457"/>
      </c:barChart>
      <c:catAx>
        <c:axId val="45936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72457"/>
        <c:crosses val="autoZero"/>
        <c:auto val="1"/>
        <c:lblAlgn val="ctr"/>
        <c:lblOffset val="100"/>
        <c:noMultiLvlLbl val="0"/>
      </c:catAx>
      <c:valAx>
        <c:axId val="16272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6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5EC-EB92-468B-ADEA-F0C1856B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262-B40E-4079-8669-51EFB8EC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73A-75D8-4780-BA01-892F78A6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8ACE-D26C-4CBB-B28C-8EC6B626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D66-36F3-4426-AEFE-DB0632C5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67A-FDCC-407A-9DF7-ADA4EC79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D2B-E0A8-4478-9380-33DBAB78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2A8-ACD6-4214-BF9D-3107C79F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BC4-DD1C-4901-824D-419E7EAF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301-5442-464B-A35B-F30E4C1E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3D7-6809-4E31-9447-19012903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3FF-2140-4364-95F9-4016A090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DB662-B311-4F44-BE9B-06F190292D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