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65997"/>
        <c:axId val="61302914"/>
      </c:barChart>
      <c:catAx>
        <c:axId val="92765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02914"/>
        <c:crosses val="autoZero"/>
        <c:auto val="1"/>
        <c:lblAlgn val="ctr"/>
        <c:lblOffset val="100"/>
        <c:noMultiLvlLbl val="0"/>
      </c:catAx>
      <c:valAx>
        <c:axId val="61302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65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44D-DFAE-4492-8FAD-400DFCA6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40D-D844-414E-BBDA-47FBAC87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BC4-7C1D-4956-ADF2-3C0761C0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BF5-ADB2-46D2-9218-173AB20F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19C-DCB7-4E8A-8D37-D9DC98B4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A0F-6300-470C-B37C-79DA369A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979-1469-42FB-917C-CE063AE9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0EE-EA3B-4D00-8382-29FC3E1A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DDC-E46C-4432-8260-9A4F2B37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7B4-059C-4DA2-B679-69F489E1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07D-939E-490E-A98D-5AF877C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D40-0B38-4909-8621-C9A68519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8ECFE-BAAC-4B86-ABA1-5D548147DC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