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07820"/>
        <c:axId val="34812290"/>
      </c:barChart>
      <c:catAx>
        <c:axId val="76907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12290"/>
        <c:crosses val="autoZero"/>
        <c:auto val="1"/>
        <c:lblAlgn val="ctr"/>
        <c:lblOffset val="100"/>
        <c:noMultiLvlLbl val="0"/>
      </c:catAx>
      <c:valAx>
        <c:axId val="34812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07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447-3992-409F-99AC-F6993E81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587-7564-47CF-A9E7-16EC9722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824-DAE9-4EE2-8597-31F514CB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546-1E75-46A6-9057-EE814AD9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354-BFD3-4D53-B182-F0039CC1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398-FBA6-4329-80AC-2D04B043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2D0-04FE-4D02-A4E8-C80DAA52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D20-034B-4ED8-B9C0-03757FE1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640-DD07-4A87-B9E8-2D8FFC52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158-51F8-45E4-8452-6A9C29B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0FE-D492-48E0-9BC2-C2F8AAE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767-01DD-4229-881F-0F843BA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C8A65-0AAA-4485-898A-0F474FC8A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