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52206"/>
        <c:axId val="59707430"/>
      </c:barChart>
      <c:catAx>
        <c:axId val="1955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07430"/>
        <c:crosses val="autoZero"/>
        <c:auto val="1"/>
        <c:lblAlgn val="ctr"/>
        <c:lblOffset val="100"/>
        <c:noMultiLvlLbl val="0"/>
      </c:catAx>
      <c:valAx>
        <c:axId val="59707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5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BAD-8754-423D-BF56-E021E9D7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01D-B741-4951-B9A3-28DFA58D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984-E2B7-4FF2-9AFB-4606E587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935-D3D8-40DC-A080-2B42A9FE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A5D-78D9-4B35-AC57-21A6BF9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35-2AB4-48B4-BDAE-5AA90CE0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E1D-C54D-489C-ADDA-BDA67D9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385-D5C8-4171-8CD9-818FD76A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6D2-FCAE-4AF4-A9BB-FAFC734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584-0D2A-4728-BFAF-FA2517F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7FC-CA9F-4CB6-9168-36038503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179-DEB4-4B91-B607-00DB74C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B1E7-C25B-472B-ADBA-CB9FF4F6A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