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83444"/>
        <c:axId val="39541587"/>
      </c:barChart>
      <c:catAx>
        <c:axId val="86583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41587"/>
        <c:crosses val="autoZero"/>
        <c:auto val="1"/>
        <c:lblAlgn val="ctr"/>
        <c:lblOffset val="100"/>
        <c:noMultiLvlLbl val="0"/>
      </c:catAx>
      <c:valAx>
        <c:axId val="39541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83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A6F-D648-4D78-8421-8D1423E5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008-E8E7-4151-A1DC-243D4B68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AE4-BDA6-4038-9AE4-A278FFF0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F61-3414-4930-B8A6-40991A3B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790-A2AC-4AAD-9AD7-7BE5621B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728-66C5-4C69-B07E-3EB7911A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393-9E89-42AF-8614-932B6B8E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B2D-8E17-4FD7-80CD-3DE32111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631-0886-4C66-AB6B-50DF1685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519-5751-48C4-A815-B0EBE6D4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3E4-1DF5-4A21-82F0-1E03C47D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BB2-A47F-492B-913A-6A6C0EA4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6CA42-01F5-4E96-8E00-FB36121E32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