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6780"/>
        <c:axId val="1516022"/>
      </c:barChart>
      <c:catAx>
        <c:axId val="1266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022"/>
        <c:crosses val="autoZero"/>
        <c:auto val="1"/>
        <c:lblAlgn val="ctr"/>
        <c:lblOffset val="100"/>
        <c:noMultiLvlLbl val="0"/>
      </c:catAx>
      <c:valAx>
        <c:axId val="1516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6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709-A380-4DAB-A179-768817EE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9BE-BBEF-4C3F-AAD1-5B9E7126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77C-F3BE-4E42-A19E-A0145918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20D-06F5-4697-8EBA-91AE2147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288-1598-4B25-BB2A-2F3B8D9C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572-1B7A-46BD-8938-4CB21EE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EC3-1B6D-48B4-953E-BBF1BEE7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2EF-F271-4AD0-98F3-C818A722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B40-7D22-4E0D-B155-68BA5CF4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F0D-802A-4887-AB35-BB4AE0D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AD7-7BBE-4CE5-84F1-1386FBC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746-B70F-494E-A64F-C4F05425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2748C-B636-4B17-91F1-A72D479E77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