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323131"/>
        <c:axId val="94873960"/>
      </c:barChart>
      <c:catAx>
        <c:axId val="623231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873960"/>
        <c:crosses val="autoZero"/>
        <c:auto val="1"/>
        <c:lblAlgn val="ctr"/>
        <c:lblOffset val="100"/>
        <c:noMultiLvlLbl val="0"/>
      </c:catAx>
      <c:valAx>
        <c:axId val="948739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3231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4CCD-5AE8-4C18-8D6A-EBEAF5B93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02C0-A09C-40DD-BF63-1C0A14CA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3C65-54A0-4A38-AC6A-5E925AA10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C969-56C8-4DB8-B8FD-63534CBC4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3C6C-EE20-4092-84E8-ECA8788E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F8AD-9D78-476C-BE37-79A49F81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D5B0-D6AC-4448-A5B7-88883736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9550-134E-40E4-9289-0CB79DC1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3C2E-9DF6-4A35-AA81-517E4BD8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81C2-50B7-425F-83E7-80F82639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9CDE-647F-487B-A4C2-B1287852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4B3F-ED10-463F-8117-57725252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0FCDE4-7B76-476C-B488-D7C0D8F488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