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95464"/>
        <c:axId val="40819428"/>
      </c:barChart>
      <c:catAx>
        <c:axId val="64295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19428"/>
        <c:crosses val="autoZero"/>
        <c:auto val="1"/>
        <c:lblAlgn val="ctr"/>
        <c:lblOffset val="100"/>
        <c:noMultiLvlLbl val="0"/>
      </c:catAx>
      <c:valAx>
        <c:axId val="40819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95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B90-5F4F-4D4A-B249-955928CB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CBC-D282-4DD3-97A7-2A131AEC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6E3-BED2-4A05-9C9C-37F6BE44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B55-CE8E-45C1-A042-7194D1DF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DCF-0183-493A-AA9D-E375C5A8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DBC-E8D9-4CC0-B1BD-5EB71379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44F-B38F-4B7C-BA1D-8EACEA2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CE4-B25D-4BCD-823C-956DA519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271-FDB4-480D-8E4A-4C56BCDB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7B5-32A9-406F-BD3F-555A46E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C83-BEF9-4841-BB51-B74CD81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9E0-E8BE-4018-AC5D-B49D7BE7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B443-4A2C-46CC-96EF-A90DD54F6D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